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1AD-E567-4C47-813B-C16134A1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9E6-CD03-4A49-99CA-8C6E6618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507E8-88ED-483E-BBAA-81FC2F34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17730-DDBF-4856-BE7A-AD128779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A1800-8F30-441F-805B-4FF2D14A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CE2D4-665B-4C05-8C13-59BA370C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DB8FE-F710-4A73-B843-D39CEFA0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6BCE3-1EF9-4EAB-8A01-997D0666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ECD91-5002-46DE-BA58-826BAFC7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0B1F1-B3AF-4D1A-8152-84DD7013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DED81-77DA-4781-9A1B-1788FEC7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661B8-A7B4-4190-93B1-FABC6A50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37F-192E-4799-ACE3-F558701F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EBDFC-CE85-4AA5-93A8-16A0FDA0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6B399-776B-4C9E-A256-238FC035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BB951-976A-4A25-8FB1-D82A6360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54C07-EAFF-454A-B7C1-2108B913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05742-497A-4BD5-A1C9-0840516A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D7D3C-0496-4A23-81BF-FE6A454C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CA87B-B5EE-4DBA-B6CA-3AC45A94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FA0F8-1992-43C0-B405-70C8801F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1B2E7-5C24-4B8C-BFBD-3CB6E738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93BD8-5078-42D3-ACFC-8243AEEE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0DB-7D22-4FA9-8E82-C6DBE33D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DFE74-E44C-405C-96DE-01A80061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76E6B-DC67-439F-9350-4D07DB3A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46B6D-BCDC-4A08-AAE9-8BDB3A11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865D4-8ABA-4D2B-A97E-29A981F8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FAD80-D8B3-4FE6-BD3E-3CED17F6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4CD9C-2226-44D1-A967-9E5A4F97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D8466-C034-43A4-A02C-07DBD6EA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44278-974D-4CC2-9A3D-450E741E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B0A51-BE06-49E2-A222-D9707B0F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83175-3DAC-4119-9AEE-5F00C6FA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A502-4F89-46A7-BD5C-5E249453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20868-3ED7-4052-953D-994DB199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FABA9-C20D-4320-A9B1-9455F668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36806-B1E5-46B4-A20C-CD18F7E2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1B9E0-4DE4-40DB-A6CA-884A01C2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DB2D3-4522-49DC-8733-9C7456E5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FFF93-68F1-4A65-99B0-A2F6E1DA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75E7E-6D7D-44C8-B391-B0855198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93239-3DF5-42D8-88FB-68CA2835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E86F9-9966-4B01-8359-9E97A499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F76F5-F1F5-43C8-84BF-7858056C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073A-6CBD-40D9-AC5D-FB576487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07EA8-2C01-4B53-A940-2E4C0498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600F8-5A94-4226-930F-E82DC71B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6BBF2-7B26-4F7A-8A9E-8E8B9CAA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EFA05-AAA9-4B8C-B4BB-041F8BB6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793CA-AD32-4A15-9BA4-8AE2A32D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C8C83-E215-416C-A084-FD40E82F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20B21-672F-4598-B4EA-10395BED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F4FC5-023A-4EA2-AC8A-150D52E0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3FB81-A6F2-4660-94D0-8F1C84AC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D0DFB-58E9-4DE5-8AB3-D70C67A9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758C-6E4A-4641-AA6B-09560A84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68B0B-0F2B-4F2F-ABDE-6DCEB20B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E106C-988A-4D51-A7AD-0DD9A482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D577D-BD97-427D-BC90-495BEE81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A66C5-2BC1-44B0-834A-282749DA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1C6FE-7A70-48B2-9393-9199E5B5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A20D02-716A-46FF-BF49-190CFB72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557AB-6989-4A71-93EF-22A677C5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650B3-59C4-4629-8624-B8A14F4D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81D27A-85A5-4781-9DD2-1F70B760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58F35-490E-4B21-9317-DD5812AE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8AF5-E4AB-4230-BC04-02CA764A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E8ACF-A8EA-4AB2-B9C1-30BDF5FD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B71D5F-5987-4A48-BB70-B984D0E5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51E22-83B0-4C1B-9B3A-6C26CA7D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E046B-7205-4309-A04C-0DBA2743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994D1-1487-4463-8B28-FA92B777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87732-CEA5-4C2F-AA3F-AAD2280A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DAF931-2754-4B90-83CB-01517638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979F6-6CB3-452A-B029-0F8814E7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7EC713-C319-4192-B425-C5BB137F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E81B7F-AFD6-4DF4-8A1B-C779A9E1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0891-20B5-4779-A3F4-33464C89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D27147-22F6-4036-A44E-4F7AEBF3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29B3A-A500-4B50-9D8C-1488C621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6CA509-1F9F-42FC-95F8-09804F6C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30353-A888-4D51-BDDB-47DE0983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959839-320D-428A-A0C4-D85DD86E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32F59-BD8C-4FEE-9C08-0F7A3A8C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E81660-AAF9-4ED2-9C61-87AE5603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30C182-77D3-4B80-BD35-0D765371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07E89-1F7F-45F4-9DAC-39F8F00F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5E89E-D04E-4BF9-BFBC-B527A02B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CF6E-4CA6-4569-AFDA-57E02E61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7909B8-F546-4F0D-9E10-D0B2DD3C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8FE7C9-CD34-463B-8E5F-9386E5C2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66196-6A19-479B-89D9-3DD72F27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CB75E-265F-443B-8123-1FE6A59A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3B8B36-2C8C-446A-A75B-A15F5F9B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E7FCD5-9281-4A4D-B228-4A1D1C70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02D4E3-9A96-415D-9B78-A7C2AD8E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8886E2-A37F-427B-BF9D-D038E303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12801F-0654-4763-93B3-1B8C66E0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EAF9D6-C70A-4046-913D-CBAE91E0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D597-AFAB-42B3-8DD3-EABC3DBC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1EC770-8EFA-4288-B0F2-03F41D7C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880143-3444-4F47-912E-44B5CF80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4FF5E-5BD6-4BD5-B6F3-3E4623D0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E9972-1579-46EA-8968-24A8268B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3C035-BB58-4B2E-A260-1B7BFC4F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F90C1B-F414-49DB-AEDD-4D8619B3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6D1E39-A0F1-4107-9F60-F403A6F1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8F7CF9-0C6F-4BE5-B97A-DB7EF0FB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478BC0-78D7-40BC-BEB8-77628FDE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10AC6C-8780-4B4D-8E45-5D431864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738-8428-43D1-8C09-36BB9870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744F-3FF0-41AC-9640-31AB079F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32BDCB-F418-4387-9773-A280113E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E01169-4CA7-44C5-93AB-D8AA260A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1903AE-7064-4C64-93AE-F02C564E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28DE31-8885-4EBE-9F98-34B539F6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67B8CF-7D33-48E7-B0BA-9221EBCA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59E01-A362-4557-9BCD-653B5C4C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5A45EB-5DE7-4004-899E-93E5834D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865500-0B27-4669-948F-93D4588F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3BE21-5123-41CF-BB2D-D27CC264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C1B2E9-5969-4CD0-A00B-01838DD9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CCE3-9F72-49A1-9044-236DBAE9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73AA7D-4223-4EF8-84A2-56C4A457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432AF5-713E-4F85-9E27-6D2CAB7C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59EB47-2E54-4609-8E24-CCC0F2D4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A530DA-D529-4918-8DD1-A9D3A9FD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C0B90D-2FB2-41C0-8BFF-CEA2FF13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3F7E1F-FC76-4DF5-91AE-92E6C9EA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000F77-EDF5-4AF3-91F6-727DEA9A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B9CC-8541-43A1-82B1-1C1A7CE0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9D1B-6621-460B-B31D-FAF4C8EF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EA97-843A-43E1-9332-BBD3F795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6673-E6CE-49DC-BBFF-55DC3166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5BF0A-0987-43D0-B5CA-0F23B64B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17B2D-25D3-466B-AE99-4A82485E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386A9-F077-46EB-9B36-FBD53B3B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A5F2-BEBD-4F81-84FB-56AA3F72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FD1-5925-4F45-A7BA-9B5E946A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19A9A-9CD8-4E34-9554-4EF90261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9F8E-9522-4EF7-9DD3-AD674A46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4964C-C6ED-45C7-9307-190FA1FB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47F4E-AD73-4FCD-BE25-FAEFA387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47E8-1821-47B1-AC7B-EFE02DBD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AF14-0A38-4FBF-86CA-C23ED26A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BB11F-A611-4454-ACDF-B38E3108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86CBD-71A2-4789-8CAA-CFD874B1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7A6C-50EE-45AA-BBA0-8F5045AA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AF695-456A-4B8C-87D8-F9A7B915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F97-9FC4-47BF-AAB8-C9422D69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59D44-F91B-49B0-9198-25179379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0B565-0FD9-4655-B2AC-6AC48373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F1878-77D5-4CB0-9782-3DBB9239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230DB-260A-49E2-9805-76B9F8E1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8B05-72BD-4500-98F9-4F7B354F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7317C-4CE3-4850-9D0A-4461F055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A998E-89DF-45E2-9B1E-A63EC570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838E2-7513-4979-966C-0005D1ED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78DD2-3A9B-4C93-B9E3-E1E2BE4A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9987B-CD90-47A1-9C2C-2B37DCFA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4EB-9D78-4B1C-BB59-1435D3CC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A870E-8927-4D05-B89F-E1EBE88F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B6149-BAA6-46E1-BF6D-2753783C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1FCAF-91E9-4F55-BB61-DD6DBE76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0578D-9836-40AF-A064-007DB611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206F9-3776-4430-91E4-DE068B8D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C1761-40D9-43EA-B29F-CC2120E2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0A176-327D-45E9-8C6F-4A66DD72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4EA94-AB7D-4F88-BFEC-E539D901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BA7B3-21A6-4B95-BFFB-CA04088C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FD045-3F04-484F-8D8E-CD74D681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5F8-EEC0-403B-B7C3-B487A407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E923E-857A-4F1E-A766-BB5240B0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B8F9F-53EE-4554-A6D9-5E5AA9C0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1D2E4-559F-4B7D-A74A-54DD2201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56A61-2F01-48AC-BAB3-365A62B8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266B0-6940-43D3-8351-C0999BEA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BEE09-6C73-4137-9455-20E0E2C8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00ED7-8CDA-4874-BF87-DA6D442A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54736-DAFD-4EE8-9B13-6EFD2DF3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1A933-1D6B-44BC-B125-CA184275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190DC-7C63-428E-B832-BFBAA6A4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769-F836-415A-8881-27E8FC03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A58A9-F30D-4F56-BCBD-E578864F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EDF00-14DE-4259-A15E-01240564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7AA1B-CA8F-4092-9F44-0BFE2A5C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2EE37-F9B8-4A3E-B8B3-808C8C5D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1AC4B-F5DA-4E2D-9B27-1DFCAF04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7E9A1-046F-46DD-90B2-B23D849E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2A58E-5681-4054-9BC2-492A62EE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6EB89-0018-4703-8241-7653218E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0898D-BCBC-4A8E-A9B5-92F020DD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3EC70-9A76-43D1-B32F-B35CE52D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3E6-710A-4088-8375-CD109037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31E09-C330-48CC-8171-E4753136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D31A2-9E9B-4079-9615-CBA822CB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94D9C-9B7A-4EF9-8196-B5D820A7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9D615-EE08-43E1-9BE8-9739B284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CCE19-62AF-4234-B3C1-7382C636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548AD-79A1-4F7F-8383-56D0E66C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86471-8E4B-4232-8CDD-F2690240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3D2B6-6D88-47C0-9A8F-59F5BCE3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93403-D5DE-4365-B844-863A8720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D408B-9C03-4707-B379-470B1D1C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9EE-ACFA-4940-826E-7B133F15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6B782-8A01-4612-959A-5D3E7DB1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F9227-A381-4B42-A1E5-8DE0F3A0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AD8A6-1E57-43D4-9B31-8FD723D7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6DE2B-868C-4745-A5D3-1C06DAEF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7FFC0-FDFE-47FA-BF65-601FDB73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68A46-BF2B-4F6E-8680-289D166E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93EBA-E75B-4DFB-B13B-EA5A753C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C9B3F-A083-4071-9BE7-941372F4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0C3A2-048E-49C9-843C-FF87EAE9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D046D-9865-4F36-8D89-065A461B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50C6-1C47-4521-BA19-5991BBDBC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Click to edit the title text format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07CD-29D1-40FA-812E-7ADAD2335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4AB5-5B52-46D3-A037-6A091D889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8951-F912-41A6-B304-0F3607706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39C0-EDEC-4077-8C5B-9FEAB6696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F495-3605-4187-AB97-718CB373B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42C4-ECF4-4AB8-B93C-19F6A4015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1439-6B21-4CE1-89BA-A784B0A9C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4288-4828-4759-917A-2FD2D049E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2C64-7913-41FA-B53C-3A3230478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DBAE-F7AD-41A4-919B-F3ED6B9BD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520" y="2941200"/>
            <a:ext cx="71629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447B-D413-45D1-A38B-8C60C9292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9EB4-B700-4992-A39C-D6AA9DB87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46b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646b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62E4-34EF-4C1A-94B7-A81F2142B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46b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646b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3520" y="2941200"/>
            <a:ext cx="71629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EC73-2A30-4AD4-94CB-22C8F93F7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FA37-6176-403B-91CD-D78F757EF5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AEDC-7DA7-4772-AFD5-779DCA51A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523520" y="2941200"/>
            <a:ext cx="71629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6135-B8E8-4644-A50B-B2C6205C8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3.1: Quadratic Functions and Models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Vertex formula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ex = (-b/2a, f(-b/2a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x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/2a= -10/2 =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-b/2a)= f(-5)= (-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(-5)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5-50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Graphing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ve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two x points equally distance from the vertex (symmetrical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one of them (this will be the answer for 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the points and connect them to the ve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Graph these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5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2x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2"/>
          <a:stretch/>
        </p:blipFill>
        <p:spPr>
          <a:xfrm>
            <a:off x="4191120" y="2057400"/>
            <a:ext cx="433836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Your assignment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84-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50 every other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-78 every other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Objectives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basic concepts about quadratic functions and their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square and apply the vertex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a quadratic function b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pplications and mode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What is a quadratic function?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function written in the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(x)=a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 does not equal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graph is a parabo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Tell me more!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fficient a indicates whether the parabola opens up or down, and how wide it is.  (as |a| increases, the parabola narro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fficient c is the y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A few more terms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ex: the highest or lowest point in a parabola (-b/2a, f(-b/2a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is of symmetry: a vertical line passes through the vertex (x=-b/2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intercept: y 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5486400" y="2971800"/>
            <a:ext cx="3090960" cy="317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What is the vertex form?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hard to find the vertex from f(x)=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kily, it is very easy to find from the vertex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a(x-h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, the vertex is (h, 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this parabola be in vertex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5715000" y="2895480"/>
            <a:ext cx="3090960" cy="317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pointy"/>
              </a:rPr>
              <a:t>How can you find the vertex form?</a:t>
            </a:r>
            <a:endParaRPr b="1" lang="en-US" sz="40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f(x)=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x+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of f(x) t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c to the side with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ecessary, multiply or divide so that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no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square with 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x by dividing b by 2 and squaring– make sure to add to both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the x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 y, dividing or multiplying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vertex (h,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Trying it out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x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 of f(x) to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x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 c to the side with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+10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necessary, multiply so that 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 no coeffic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 the square with a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bx by dividing b by 2 and squaring– make sure to add to both s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2 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+10+1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or the x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+11=(x+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 y, dividing or multiplying if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(x+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(h, 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1, -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Trying it out again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=2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4x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f f(x) to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4x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c to the side with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-1=2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4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multiply or divide so that 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no co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/2-1/2=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square with a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bx by dividing b by 2 and squaring– make sure to add to both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2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/2 -1/2 +1=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2x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x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/2 + 1/2=(x+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y, dividing or multiplying if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/2 + ½)= 2(x+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=2(x+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(h, 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1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3:36:30Z</dcterms:created>
  <dc:creator>nuhs</dc:creator>
  <dc:description/>
  <dc:language>en-US</dc:language>
  <cp:lastModifiedBy>nuhs</cp:lastModifiedBy>
  <dcterms:modified xsi:type="dcterms:W3CDTF">2008-01-24T21:08:17Z</dcterms:modified>
  <cp:revision>5</cp:revision>
  <dc:subject/>
  <dc:title>3.1: Quadratic Functions and Models</dc:title>
</cp:coreProperties>
</file>